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D27-41F7-4CFF-9759-F6A12431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7A5-3A8E-4C31-8FE0-2D40FB3C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F9C-4CD0-4665-8E45-2A00F474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ADC-F48F-4468-9802-0709C309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52C-C024-4395-9E8D-D6FD6BB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8EE-5C02-45FD-85C7-A490E33E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28B-D91A-4D5D-8D17-512B847B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DA4-6FF0-4D36-A947-15325297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B38-018A-4DA8-953E-6B6E829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289-BE91-40F6-8494-50B5CFA6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F23-F848-4A64-A159-B872B88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F73-6DAC-4CD5-9206-0DB7D79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DC7-7D2D-424C-8D45-DBA5862C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yaege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45720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rosthetic Ar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4495680"/>
            <a:ext cx="3733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en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480" y="4379760"/>
            <a:ext cx="363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 Play 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r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00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Yaeger"/>
          <p:cNvPicPr/>
          <p:nvPr/>
        </p:nvPicPr>
        <p:blipFill>
          <a:blip r:embed="rId1"/>
          <a:stretch/>
        </p:blipFill>
        <p:spPr>
          <a:xfrm>
            <a:off x="304920" y="1981080"/>
            <a:ext cx="8458200" cy="2608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59360" y="5141880"/>
            <a:ext cx="43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Ya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yaeg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5200" y="5105520"/>
            <a:ext cx="43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a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yaeg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rosthetic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is invention has given people without arms an arm that works as if it was a real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oadway"/>
              </a:rPr>
              <a:t>Even though this arm is helpful to people without arms it take a lot of time to get use to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roadway"/>
              </a:rPr>
              <a:t>With this arm, as a person grows they must get the arm fitted every once and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Ivan has made the arm so that the elbow, and the wrist can turn almost all the way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roadway"/>
              </a:rPr>
              <a:t>Ivan aimed to build limbs that would give anyone the basic functions of the wrist, elbow, and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or: Ivan Ya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has won numerous awards for science, engineering, leadership, and public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raduated in 1998 from the university of Miami with a degree in buisness management and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stablished Yaeger Innovation Products Cor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so invented his own initial line of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6Z</dcterms:created>
  <dc:creator>install</dc:creator>
  <dc:description/>
  <dc:language>en-US</dc:language>
  <cp:lastModifiedBy>install</cp:lastModifiedBy>
  <dcterms:modified xsi:type="dcterms:W3CDTF">2011-03-11T18:32:49Z</dcterms:modified>
  <cp:revision>12</cp:revision>
  <dc:subject/>
  <dc:title>Slide 1</dc:title>
</cp:coreProperties>
</file>